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8CA-3804-446D-9530-B21BD985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389-B8FC-472C-A6B9-8D9158D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BF6-EFDA-4A08-BC0B-E7D5BAC6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3AA-F101-4CA2-BC2E-2FA5D8F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3DD6-2928-4987-B324-85549C2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683D-E76B-4D59-8802-7CFD778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DE92-C476-4327-86B4-94DFA32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D2D-ED82-4684-8753-2D849C2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3044-2D73-4B63-AFE3-96AF7BE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566-FFAC-448F-AFCE-16EBB0E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7D54-DB5B-4FA0-A1A1-704467D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392-EEFE-4FDF-A847-E7345DD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6F48-57D1-4E41-A72A-626FF57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1E1D-0A74-41D4-8DB3-0247D6E8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9256-953C-47A3-8441-B48201C6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2A49-5D21-4273-819C-1253EFA4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CCA6-17A7-4BD9-A1F7-D6F980C9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453-F2B3-42FA-952C-71F3872D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CF8-B4D4-4E42-A934-2A0E5E42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711-A705-4763-AB22-4E9AE54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DB8-6B73-4413-BF93-F546403F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EF9-F6BC-490F-80B0-27BE3B40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C11-6E7D-46B1-BAD1-69D327D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BD9-00BB-40F6-9D7A-48B11F7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F35C-EDBE-4F62-9918-B719A3BE79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61E-D963-43A2-B552-2FA5109EDE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file:///tmp/home/.config/libreoffice/4/user/gallery/doh.wav" TargetMode="External"/><Relationship Id="rId5" Type="http://schemas.openxmlformats.org/officeDocument/2006/relationships/hyperlink" Target="file:///tmp/home/.config/libreoffice/4/user/gallery/smart.wav" TargetMode="Externa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Farley%20burn%5B2%5D.wav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66"/>
                </a:solidFill>
                <a:uFillTx/>
                <a:latin typeface="Times New Roman"/>
              </a:rPr>
              <a:t>Nuclear Chemistr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of the Ato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 Particles and Isotop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0000ff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activity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Deca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676520"/>
            <a:ext cx="8382240" cy="2241360"/>
            <a:chOff x="380880" y="1676520"/>
            <a:chExt cx="8382240" cy="2241360"/>
          </a:xfrm>
        </p:grpSpPr>
        <p:graphicFrame>
          <p:nvGraphicFramePr>
            <p:cNvPr id="94" name=""/>
            <p:cNvGraphicFramePr/>
            <p:nvPr/>
          </p:nvGraphicFramePr>
          <p:xfrm>
            <a:off x="6400800" y="1676520"/>
            <a:ext cx="2362320" cy="21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00800" y="1676520"/>
                      <a:ext cx="2362320" cy="21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380880" y="1752480"/>
            <a:ext cx="2362320" cy="216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1752480"/>
                      <a:ext cx="2362320" cy="21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429000" y="1752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1640" y="4572000"/>
            <a:ext cx="58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 Ray 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45820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51055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 Ray 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53416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36888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1143000"/>
            <a:ext cx="38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obert Millikan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s the mass and charge of an electron 1909-1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4800" y="579132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Millikan’s Oil Drop Experim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73152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View of the Atom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02M11PH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85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View of the Atom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66"/>
                </a:solidFill>
                <a:uFillTx/>
                <a:latin typeface="Times New Roman"/>
              </a:rPr>
              <a:t>Discover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193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elleni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Based on Intui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34320" y="2743200"/>
            <a:ext cx="1849320" cy="3809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9144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254664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2057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isto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Democritu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4"/>
          </p:cNvPr>
          <p:cNvSpPr/>
          <p:nvPr/>
        </p:nvSpPr>
        <p:spPr>
          <a:xfrm>
            <a:off x="304812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9758"/>
                </a:moveTo>
                <a:lnTo>
                  <a:pt x="8224" y="9758"/>
                </a:lnTo>
                <a:lnTo>
                  <a:pt x="12645" y="5145"/>
                </a:lnTo>
                <a:lnTo>
                  <a:pt x="12645" y="19158"/>
                </a:lnTo>
                <a:lnTo>
                  <a:pt x="8224" y="14545"/>
                </a:lnTo>
                <a:lnTo>
                  <a:pt x="3794" y="14545"/>
                </a:lnTo>
                <a:close/>
              </a:path>
              <a:path fill="darken" w="21600" h="24303">
                <a:moveTo>
                  <a:pt x="14299" y="12152"/>
                </a:moveTo>
                <a:lnTo>
                  <a:pt x="17806" y="12152"/>
                </a:lnTo>
              </a:path>
              <a:path fill="darken" w="21600" h="24303">
                <a:moveTo>
                  <a:pt x="14299" y="9758"/>
                </a:moveTo>
                <a:lnTo>
                  <a:pt x="17806" y="6990"/>
                </a:lnTo>
              </a:path>
              <a:path fill="darken" w="21600" h="24303">
                <a:moveTo>
                  <a:pt x="14299" y="14545"/>
                </a:moveTo>
                <a:lnTo>
                  <a:pt x="17806" y="17313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>
            <a:hlinkClick r:id="rId5"/>
          </p:cNvPr>
          <p:cNvSpPr/>
          <p:nvPr/>
        </p:nvSpPr>
        <p:spPr>
          <a:xfrm>
            <a:off x="6095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9751"/>
                </a:moveTo>
                <a:lnTo>
                  <a:pt x="8224" y="9751"/>
                </a:lnTo>
                <a:lnTo>
                  <a:pt x="12645" y="5138"/>
                </a:lnTo>
                <a:lnTo>
                  <a:pt x="12645" y="19151"/>
                </a:lnTo>
                <a:lnTo>
                  <a:pt x="8224" y="14538"/>
                </a:lnTo>
                <a:lnTo>
                  <a:pt x="3794" y="14538"/>
                </a:lnTo>
                <a:close/>
              </a:path>
              <a:path fill="darken" w="21600" h="24289">
                <a:moveTo>
                  <a:pt x="14299" y="12144"/>
                </a:moveTo>
                <a:lnTo>
                  <a:pt x="17806" y="12144"/>
                </a:lnTo>
              </a:path>
              <a:path fill="darken" w="21600" h="24289">
                <a:moveTo>
                  <a:pt x="14299" y="9751"/>
                </a:moveTo>
                <a:lnTo>
                  <a:pt x="17806" y="6983"/>
                </a:lnTo>
              </a:path>
              <a:path fill="darken" w="21600" h="24289">
                <a:moveTo>
                  <a:pt x="14299" y="14538"/>
                </a:moveTo>
                <a:lnTo>
                  <a:pt x="17806" y="17306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tempora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based on experimen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1676520"/>
            <a:ext cx="8381880" cy="3962160"/>
            <a:chOff x="533520" y="1676520"/>
            <a:chExt cx="8381880" cy="3962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35496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343400" y="1676520"/>
              <a:ext cx="45720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cc"/>
                  </a:solidFill>
                  <a:latin typeface="Times New Roman"/>
                </a:rPr>
                <a:t>Dalton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- Proved the existence of the atom in 1803 via  </a:t>
              </a:r>
              <a:r>
                <a:rPr b="0" lang="en-US" sz="4400" spc="-1" strike="noStrike">
                  <a:solidFill>
                    <a:srgbClr val="6600ff"/>
                  </a:solidFill>
                  <a:latin typeface="Times New Roman"/>
                </a:rPr>
                <a:t>experimentation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lton’s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smallest units of ma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identical to each other if they are of the same ele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building blocks of compou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The units of chemical chan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828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Atoms are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View of Atom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410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based on Dalton’s theo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590920"/>
            <a:ext cx="1752840" cy="1828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905120"/>
            <a:ext cx="30477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ncharg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Spherical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att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962160" y="2438280"/>
            <a:ext cx="152388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Times New Roman"/>
              </a:rPr>
              <a:t>Discovery of the Electron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1676520"/>
            <a:ext cx="8458200" cy="4876560"/>
            <a:chOff x="457200" y="1676520"/>
            <a:chExt cx="8458200" cy="4876560"/>
          </a:xfrm>
        </p:grpSpPr>
        <p:pic>
          <p:nvPicPr>
            <p:cNvPr id="126" name="frankwithkey" descr=""/>
            <p:cNvPicPr/>
            <p:nvPr/>
          </p:nvPicPr>
          <p:blipFill>
            <a:blip r:embed="rId2"/>
            <a:stretch/>
          </p:blipFill>
          <p:spPr>
            <a:xfrm>
              <a:off x="457200" y="1676520"/>
              <a:ext cx="35496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191120" y="1828800"/>
              <a:ext cx="47242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3300"/>
                  </a:solidFill>
                  <a:latin typeface="Times New Roman"/>
                </a:rPr>
                <a:t>Electricity</a:t>
              </a:r>
              <a:r>
                <a:rPr b="0" i="1" lang="en-US" sz="4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as the starting place for the discovery of  atomic particles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rId3"/>
          </p:cNvPr>
          <p:cNvSpPr/>
          <p:nvPr/>
        </p:nvSpPr>
        <p:spPr>
          <a:xfrm>
            <a:off x="4572000" y="52578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8406"/>
                </a:moveTo>
                <a:lnTo>
                  <a:pt x="10190" y="8406"/>
                </a:lnTo>
                <a:lnTo>
                  <a:pt x="14611" y="3794"/>
                </a:lnTo>
                <a:lnTo>
                  <a:pt x="14611" y="17806"/>
                </a:lnTo>
                <a:lnTo>
                  <a:pt x="10190" y="13194"/>
                </a:lnTo>
                <a:lnTo>
                  <a:pt x="5760" y="13194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19773" y="10800"/>
                </a:lnTo>
              </a:path>
              <a:path fill="darken" w="25532" h="21600">
                <a:moveTo>
                  <a:pt x="16265" y="8406"/>
                </a:moveTo>
                <a:lnTo>
                  <a:pt x="19773" y="5639"/>
                </a:lnTo>
              </a:path>
              <a:path fill="darken" w="25532" h="21600">
                <a:moveTo>
                  <a:pt x="16265" y="13194"/>
                </a:moveTo>
                <a:lnTo>
                  <a:pt x="19773" y="15961"/>
                </a:lnTo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J.J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7134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267080" y="3809880"/>
            <a:ext cx="449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JJ Thomso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dited with discovering the electron in 189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243828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46483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Cathode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Ray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Times New Roman"/>
              </a:rPr>
              <a:t>Tub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58200" cy="307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2:40:34Z</dcterms:created>
  <dc:creator>Shamokin Area Schools</dc:creator>
  <dc:description/>
  <dc:language>en-US</dc:language>
  <cp:lastModifiedBy>Shamokin Area School District</cp:lastModifiedBy>
  <dcterms:modified xsi:type="dcterms:W3CDTF">2001-09-07T18:56:57Z</dcterms:modified>
  <cp:revision>43</cp:revision>
  <dc:subject/>
  <dc:title>Nuclear Chemistry</dc:title>
</cp:coreProperties>
</file>